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681CE-413A-4764-9A87-F8FA3C479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5D9F-07AF-4791-8995-696203EBB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A0EA9-B5D8-4C12-8048-979BD27A3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429AE-6E81-4B2C-84D2-5C2F8E38A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199E0-3BF7-45B8-B1AC-236D7D502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6D692-C11A-4309-8332-3DE5AF374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77F5C-B311-4DB6-951E-23688AD78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728FB-BB18-4C15-B662-0699C556C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7FF63-8F11-4544-95B0-631589F9B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3EB63-30D7-477C-ADE6-D8E28F0F1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3FC6B-A990-46C1-9BF2-102663B8E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F939E-90A7-4CC4-AE4D-982BB47C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72AD4-27AF-43EA-81CD-AE822465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FCC8F-7A55-433C-9C15-165BEA130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AFCC2-494B-4B58-B6ED-4962D9D7C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81850-DB79-4118-AB5B-E29217362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1AFA6-64D6-4FE4-A9D2-255FEAA64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CA883-11EB-4EAE-B766-EAB6F8E94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D810-D022-4DCE-991B-6F6B15AA2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19C6-04A1-4421-9CB5-7A727EC8A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EA9B-F9F0-440F-A3DB-9EBBB3308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1E68-0431-4195-A4D1-CCB676647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B5F4-435A-429F-9296-31A78BF08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DA61C-03B2-4656-B180-4541ABF67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3E80-7D97-44D2-B3D3-32D03FFF13DF}"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2C9D-E12A-4B00-A55E-830442B6C6B3}"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4</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4</a:t>
            </a:r>
            <a:endParaRPr b="0" lang="en-US" sz="24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oite@mit.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k@korppi.jyu.fi</a:t>
            </a:r>
            <a:endParaRPr b="0" lang="en-US" sz="3200" spc="-1" strike="noStrike">
              <a:solidFill>
                <a:srgbClr val="ffffff"/>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4p@korppi.jyu.fi</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l</cp:lastModifiedBy>
  <dcterms:modified xsi:type="dcterms:W3CDTF">2004-01-11T12:57:42Z</dcterms:modified>
  <cp:revision>54</cp:revision>
  <dc:subject/>
  <dc:title>Training</dc:title>
</cp:coreProperties>
</file>