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C889-A024-42FB-B906-020E51C8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B46F-193E-4876-AE97-102BF673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C11D-3579-4D9E-AF5F-9BADAC37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AE81-BC91-46E6-8653-05A058E0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46DF-B98F-4AA5-BBE3-50574D91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8216-FFBE-437B-B457-D24706DE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E864-D478-4A11-8115-18875F2C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3548-8C0D-4F2F-8C22-8086CDB9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3B2C-BAEE-4549-AE15-303DCF2A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C4FC-6CAC-49EC-BB83-43E5BA91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4194-BEE4-412D-A354-482EFE5B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1EDA-B097-47AF-8F7E-73802229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1E47-F50B-448E-A682-F1DCA60B6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Suomi 1800-luvun lopu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236600"/>
            <a:ext cx="821844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atel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ap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orvar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alonpo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äätylä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orppa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äkitupala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engit, pi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o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aupunkityöväest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 (ei tiedä mitä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 (ei käytä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 (ketä edus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 (ei tiedä mitä asiakas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 (ei tiedä mitä voi toteut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 (ei tiedä mistä on ky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uinka kä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138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iks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teh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pin tekijä ei ole ikinä käyttä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keskustellut kopin tekijän kan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utta onneksi kopintekijä oli kaukaa viisas ja laittoi laudat pystyyn :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2:43:11Z</dcterms:created>
  <dc:creator>Lappalainen, Vesa Tapani</dc:creator>
  <dc:description/>
  <dc:language>en-US</dc:language>
  <cp:lastModifiedBy>Lappalainen, Vesa Tapani</cp:lastModifiedBy>
  <dcterms:modified xsi:type="dcterms:W3CDTF">2007-12-09T17:43:19Z</dcterms:modified>
  <cp:revision>19</cp:revision>
  <dc:subject/>
  <dc:title>Slide 1</dc:title>
</cp:coreProperties>
</file>