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8531-48D8-4E5B-9DB5-EBCD4817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E2D5-5DA7-4E59-9B24-0A74D46C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C34D-E31C-435C-8339-B77DBEC4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249C-9623-4A5B-B4E6-7AD14992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8FE0-03C9-43EE-AD92-AE05E8CF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B977-EDD4-401A-A996-74520F50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9088-7F30-43CA-8DB3-8092A5EC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C51F-0F26-4E33-99A7-F58B6525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6445-7473-43AA-AFC4-532EF2CA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62C5-C4FB-4647-84B8-B8CCB90E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9C2E-1B53-4176-8E22-D74C6EB4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A567-5806-4BFD-AD35-AF0582BD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E193-B059-40E6-835B-FD670A022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uomi 1800-luvun lopu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236600"/>
            <a:ext cx="821844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atel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ap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orvar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alonpo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äätylä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orppa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äkitupala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engit, pi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o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aupunkityöväest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 (ei tiedä mitä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 (ei käytä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 (ketä edus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 (ei tiedä mitä asiakas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 (ei tiedä mitä voi toteut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 (ei tiedä mistä on ky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uinka kä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138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teh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pin tekijä ei ole ikinä käyttä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keskustellut kopin tekijän kan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utta onneksi kopintekijä oli kaukaa viisas ja laittoi laudat pystyyn :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2:43:11Z</dcterms:created>
  <dc:creator>Lappalainen, Vesa Tapani</dc:creator>
  <dc:description/>
  <dc:language>en-US</dc:language>
  <cp:lastModifiedBy>Lappalainen, Vesa Tapani</cp:lastModifiedBy>
  <dcterms:modified xsi:type="dcterms:W3CDTF">2007-12-09T17:43:19Z</dcterms:modified>
  <cp:revision>19</cp:revision>
  <dc:subject/>
  <dc:title>Slide 1</dc:title>
</cp:coreProperties>
</file>