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2E6D8E-10A5-4B7A-A8A5-1654872834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73476E-F2AB-42F1-AC50-5CFE2499CA6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8CF47F-49F6-4043-B430-88EC8D135C9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14BD9A-5D70-46DA-A266-B24F31FD5F5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433371-9E8F-42E8-AB64-E76D6768E82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2FBABA-498F-4C88-AB3D-69914565EF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F8AE95-E013-4863-BE40-8062F4A237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084F4A-90A7-4640-B744-D92E3B06961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9AFEC3-3AD7-4652-839E-13CD584A615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A1A12A-4DFE-4574-AE1C-496BD6074D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B6A932-CA14-48DE-B0A3-3BDD8D2AB80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671C4C-798E-4AFC-913B-95A3C0BD44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521F6E-DC2B-4F33-B870-F90AE7D9F25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2A8461-6545-45A5-BFE6-36A4A97B57D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B11597-BE23-4DA8-89D5-E29D536FDB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9E963D-296A-4CEA-9FEE-3344C134DE1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09EFAA-0BA1-442D-B522-253D443141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6604D3-6A5C-4629-A6B8-55E3DD9933F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09B-51D0-47F3-AEA7-2ABE84C7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2EF-18FD-4261-9548-37271EBD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534-2CDE-4825-A163-15DEFA90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874-20BC-44B4-812E-581CEC32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731-F740-4684-AD36-F3CF671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AD6-AB35-4D71-817D-92F01D1C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15A-DF0E-4052-9B8C-794FBE7A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DF5-0B50-4FAB-80F0-E461BCB7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F33-1426-4B45-B61E-72A13823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9D8-34BC-4D37-82D2-22CB72CE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B25-2464-46B5-BA2E-E7934507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18B-7DC3-4375-84BD-FD8EF3E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74A-30FC-419E-9B08-754685A49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15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 Lappalainen</cp:lastModifiedBy>
  <dcterms:modified xsi:type="dcterms:W3CDTF">2015-01-10T20:33:38Z</dcterms:modified>
  <cp:revision>19984</cp:revision>
  <dc:subject/>
  <dc:title>No Slide Title</dc:title>
</cp:coreProperties>
</file>