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0B5D46-39C9-47D0-9765-74B9B01720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5FC740-ED07-481C-B08B-07784F8C9A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D15C09-AA40-43C0-86E8-F9081954B91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6A1322-9786-4273-8F5E-1F358FB435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9CE714-2366-4399-8174-2DEC62E70AF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E1F807-3C47-437A-8D02-2907682EC96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6D776B-1B76-4F0D-95EE-1ED004D4658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BBDD71-BBC0-422D-B01D-8C7EAC5EDF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FCCA2B-74D9-42FD-8C1C-BD49460E741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BDEA0C-9D03-4CB1-9F1D-2269D6CAC3E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C5F9EE-8DF5-4285-90AC-F0AAFD9B4A8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51F3C1-BE7B-49C1-8F5C-D2F8E5F8D3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CBC044-2E48-406D-A29D-8E598B35967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8D3E69-DE27-4E24-92D0-AE7C82E904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F933D2-8EBA-47ED-8A5E-F3419506EE9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638564-A509-43F7-941F-A63E737F4C3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B347A7-2E52-4045-B9F3-19FCA4C89BD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AB6D40-FC12-477F-8ECC-475FA0FA98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F89-1225-4BA5-BD87-5AFBD57A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9BC-9D3B-4B03-9669-73795EC0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B09-FD0B-46AF-9DF2-EFCB7737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008-9CE6-4CDA-85DE-FF6431CB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A7C-323C-41E4-940F-2FE74531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347-EF65-47F0-AD59-DBBCB4D9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DEA-D761-468A-9097-F27D7319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94A-DBBA-4726-83AC-11D460A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0EC-316A-4A71-B11A-0F3AB00E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B53-54E9-4E86-83E7-461FDD9E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8CD-E27B-4977-A48C-0C21FAB7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732-E342-4FD5-A379-BBB0CFB9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48B0-76FB-4DEE-8E46-4E5036EAC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prstGeom prst="pi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9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cp:keywords/>
  <dc:language>en-US</dc:language>
  <cp:lastModifiedBy>vesal</cp:lastModifiedBy>
  <dcterms:modified xsi:type="dcterms:W3CDTF">2009-01-12T11:21:53Z</dcterms:modified>
  <cp:revision>19980</cp:revision>
  <dc:subject/>
  <dc:title>No Slide Title</dc:title>
</cp:coreProperties>
</file>