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F74F3B-8646-42B9-8CB4-F7DC859C21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B85-528F-4C62-AC3D-E73AFFC4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D7B-1D03-41B4-8C47-676D9BA2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97C-351F-45F0-B01E-226A271B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06F-6003-4E21-BEFF-2571D582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765-F200-49B9-B79B-37C5C446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061-E3D1-4CE0-8067-3F6DEA7A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50F-249F-4F66-AB34-982883CA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8D9-DF16-4CBF-A1FF-99D122D7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CCB-B394-42CE-A09C-F11373E5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07C-BFDE-4369-8285-EC6482AA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FD79-E509-4214-80FA-A4644167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4FD-A3FB-49EE-83A6-143AD6B7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E9868E-BB93-4B0D-A46D-2C863B7FF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6f93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ce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e4e4b6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04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dc:language>en-US</dc:language>
  <cp:lastModifiedBy>vesal</cp:lastModifiedBy>
  <cp:lastPrinted>31138-02-14T16:19:33Z</cp:lastPrinted>
  <dcterms:modified xsi:type="dcterms:W3CDTF">2004-01-11T13:00:29Z</dcterms:modified>
  <cp:revision>19975</cp:revision>
  <dc:subject/>
  <dc:title>No Slide Title</dc:title>
</cp:coreProperties>
</file>