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BE05DD-B85C-4EA0-8710-D122E1CF5C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7AAF42-A7CB-4209-8D0A-93999CBECFC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FFF5CD-26C2-4126-9192-01BAC9C38A1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677FC9-9AC4-46A5-A619-26A27C570EA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84784A-85CE-4E5C-A7E6-7BFD342E872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E81E02-0F13-4676-B1F8-9DCB962E47D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B345FD-F16C-4DF2-9B8B-3B706FB6B6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8E99E9-A2AE-4AE5-9980-BF06806A577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DAF8B4-A751-4F5D-902A-BAA17B70EEA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1AC772-3606-41AC-A7B2-039BF9918E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2DF02D-5DC1-41AB-930B-413AF7633AE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2A2A57-0FE0-4CF4-9386-CF454B2F4AC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EFF127-F9BF-4335-A6DE-92F6D600994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55DDA1-BC00-4560-9557-C9619710D7A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8D672A-7F35-4683-9BC5-DF6480FB94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38B1B0-B91D-4B22-ACDE-701A1B2972A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3BAB57-65A2-4971-BE24-8E9FFD2220E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413F2A-55EB-471F-B9A2-DF2D54ACB8D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3CC-F8F7-4A4C-B361-6910202D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47D-BF64-477D-B80D-620B98B6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C2C-5898-4345-B4AB-C3AABAC0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E1D-EEFF-44FE-A518-BADD8653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E2B-3A43-40E1-BF18-002A3447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4D4-BF50-4D59-B1CE-6BCF7621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F4C-6E59-429A-B357-1E95B990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46B-0905-4E65-880A-52478621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C77-FADA-40AC-B88D-9EF3F24D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381-DD09-410D-9A16-C636AD80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7B0-2DBF-4F5E-B0B3-A42E0F38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79D-AD75-4656-83C9-894ED6B9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B421-A26A-48B0-A4CF-955DAD089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15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 Lappalainen</cp:lastModifiedBy>
  <dcterms:modified xsi:type="dcterms:W3CDTF">2015-01-10T20:33:38Z</dcterms:modified>
  <cp:revision>19984</cp:revision>
  <dc:subject/>
  <dc:title>No Slide Title</dc:title>
</cp:coreProperties>
</file>