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32FCD-FA18-4AF0-BC9D-DD30CB18B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A2EFF-61B6-423F-94CA-86CAF9B47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DFED1-FDD2-45D8-B375-05BF729D5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5953A-6315-46B0-B8F9-EEC421101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9E619-CD70-45A6-A624-4DBA58B2D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C38DC-EFDF-4CF9-96B9-BEC75D8E2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46043-4024-44F2-B875-8452E40B0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1E585-DC0F-4D55-8CBA-135CAD098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A9368-61FB-4A6C-A05F-41B97B9DD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61D67-EAAF-46F3-8EC8-39BFC3D7E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3CC06-99E0-4A93-B3D5-C65F92229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429B7-1E4D-41A0-8C84-A7575B664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11D93-58A0-4CEE-A812-B91A5A04E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FFFC7-F329-4535-861B-2E0C5CE10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B5858-5928-4157-99A3-5DA600F9D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C71C9-DA38-41A0-B668-4938B1BA4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B9B3D-0038-4929-B2B3-351E4C0F3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3727C-9055-4E2C-B111-96E557E6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EB28D-3618-4568-930B-546E58DBD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6BE5F-E0BD-4D45-AFDC-C2935099E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4D889-86D3-44FD-BAB4-7ED2228B3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A88FE-9D79-4A84-912E-91207DA59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FBB54-6A36-41E3-9987-93D45C45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0A28B-2B57-4B8A-BFF5-68E66B3F0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E674-8C8B-494A-B1D2-C4E1A04C6614}"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BE25-0E25-49DE-986A-B0BB828128C8}"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15</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Swing-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https://trac.cc.jyu.fi/projects/ohj1/wiki/k2015</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5-01-10T20:37:55Z</dcterms:modified>
  <cp:revision>64</cp:revision>
  <dc:subject/>
  <dc:title>Training</dc:title>
</cp:coreProperties>
</file>