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49546B-6110-41C9-9B68-A907504A52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F76E52-C338-4AEC-95AE-223B38D681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1E26A6-581D-4E0C-9F40-EDCF8DE38F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744D7C-E0E6-4209-AF30-ABA2CB1DF2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960297-38E1-4564-BAE1-A9B0AF63D5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5832DE-B8F8-4BE7-8416-13B6CD97EA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9813B5-7C1F-4531-A220-7AA20E7C3F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95F1D0-4A3B-458F-A648-87235609D2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09B1C2-20D1-4C42-AD04-B11A95764E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B0FC8D-5E8C-418F-9D4A-E6ADD91FF2E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FEA545-A133-4B87-B28D-1403BB3218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0ABDA0-69F6-474E-93C5-C888C53DD64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E62F19-79A9-474B-915B-7D1485EA08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57142E-A434-48F7-BC32-9854B24B8A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6798E1-6579-4548-AF73-9ADBE38D32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53D159-6B79-43B8-9D9C-E096EF4188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16442E-A96B-4953-94ED-F420D50760C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C195D4-4FD9-4EF2-A76F-3AFD0592F2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35D-7F19-44F0-8955-4B3D0B35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397-AE56-4D9B-B447-32A2871E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8DC-433E-4EB7-89B2-9D5FAB7D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A99-738D-4332-8F3D-0A2D51D4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96C-27E9-4D5D-BEAB-3E832F61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FA4-0779-4417-8ADD-F889B5AD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2E1-C878-4160-8F93-BEC962E4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4D8-1220-4324-A890-1E9170DB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96E-BA85-4DE7-9E90-4B339F4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01D-987B-4190-AF21-A75C764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0D1-328F-49AF-B215-D6043F2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E83-2708-4694-A480-6948F03C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35D-2809-4037-834B-93F039B7D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9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l</cp:lastModifiedBy>
  <dcterms:modified xsi:type="dcterms:W3CDTF">2009-01-12T11:21:53Z</dcterms:modified>
  <cp:revision>19980</cp:revision>
  <dc:subject/>
  <dc:title>No Slide Title</dc:title>
</cp:coreProperties>
</file>