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64C4-5232-4101-990F-2D94C159D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13FF-809E-4CC9-A3F6-70138EB95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B5B9-59AB-4366-A860-D82DE7797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408E-0AA8-4F40-A941-F816EC933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11A2-991D-4E98-90F0-ABB4F1F41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4613-2281-4FE4-9674-48073C931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5933-9211-4B08-8523-689AA020A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C3C5-DD34-42F6-AB18-00A3DFC72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BE7C-3EBB-42DC-A5E3-E5AEF85C8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4903-0869-47FE-9453-3586C821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ADDC-833C-4ED7-9081-F92E46022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DBDF-47DC-4266-AD48-1BD74EE9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38254-2E13-4A64-99BD-96F9A1E161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siak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siakkaan edust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yyj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rojektipäällikk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rkkiteh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äyttöliittymäsuunnittel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ehittäj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esta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Suomi 1800-luvun lopul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000" y="1236600"/>
            <a:ext cx="821844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ateli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api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orvari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alonpo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Säätyläi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orppar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äkitupalai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Rengit, pi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Loi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aupunkityöväest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siakas (ei tiedä mitä halua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siakkaan edustaja (ei käytä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yyjä (ei ymmärrä ongelma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rojektipäällikkö (ketä edusta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rkkitehti (ei tiedä mitä asiakas halua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äyttöliittymäsuunnittelija (ei tiedä mitä voi toteutta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ehittäjä (ei ymmärrä ongelma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estaaja (ei tiedä mistä on ky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Kuinka kä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8713800" cy="43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Miks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oira ei tehnyt kopp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opin tekijä ei ole ikinä käyttänyt kopp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oira ei keskustellut kopin tekijän kans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utta onneksi kopintekijä oli kaukaa viisas ja laittoi laudat pystyyn :-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siak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siakkaan edust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yyj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rojektipäällikk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rkkiteh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äyttöliittymäsuunnittel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ehittäj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esta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12:43:11Z</dcterms:created>
  <dc:creator>Lappalainen, Vesa Tapani</dc:creator>
  <dc:description/>
  <dc:language>en-US</dc:language>
  <cp:lastModifiedBy>Lappalainen, Vesa Tapani</cp:lastModifiedBy>
  <dcterms:modified xsi:type="dcterms:W3CDTF">2007-12-09T17:43:19Z</dcterms:modified>
  <cp:revision>19</cp:revision>
  <dc:subject/>
  <dc:title>Slide 1</dc:title>
</cp:coreProperties>
</file>