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B21C3-CAB5-462C-B33B-A9AF83E2D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037C-C42D-4227-B893-A2B51C05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876B8-DEF7-4924-902D-CD4FE63B7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1D913-7732-4D5B-A457-C62BE2656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924E3-56FB-4BBC-B520-9BAF74B93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D0D33-A73B-4192-9FA1-B3A0CF5B2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7EF32-F9FA-425E-A7F6-7559891FF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78B70-6396-483A-BB12-2C4ED48CF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F0500-B0A9-431B-88F4-99244957F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0349E-B315-493D-AC45-7F0018D10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319F3-F3FD-47F4-A670-34A455F6F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3F640-4D19-46CD-A1D0-CAED08A68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E0A3B-7B42-42E6-8885-BFDB7638B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7EFF3-F6C5-4ACB-BA3E-67B375A05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D8A93-61A6-44D6-8F2C-2BB37553F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5D88E-E10A-4AFE-B878-59B815B5F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B5841-2B6C-4200-AF87-D6D1FB028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2EA17-FE6C-48C3-9B06-19E974695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EC9B6-D3EE-4D36-BFB0-B5B404058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92042-0B1F-4CF8-9B0F-C7F9E4E5A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3325-91DE-40AD-9AAC-D923FC0DA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552A-EA68-4D20-B8F5-06E9F04B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7B60F-424A-4F8A-BF3E-96332AA5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B18E3-153E-4EB6-9D87-B8DB552DA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6DD8-FEC4-4D66-A789-CBC2EA836932}"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7F18-5BB7-4F67-885B-135EC7F58748}"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4</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4</a:t>
            </a:r>
            <a:endParaRPr b="0" lang="en-US" sz="24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oite@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p@korppi.jyu.fi</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l</cp:lastModifiedBy>
  <dcterms:modified xsi:type="dcterms:W3CDTF">2004-01-11T12:57:42Z</dcterms:modified>
  <cp:revision>54</cp:revision>
  <dc:subject/>
  <dc:title>Training</dc:title>
</cp:coreProperties>
</file>