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78F6E-3AC0-4541-AD7A-96FEB068B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A97B-A2DC-4C51-A838-5750566E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5BDD0-49E7-4DCA-B98F-D8307CBBE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76EBB-8F13-4DE4-BA3D-AAF4CF179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AC7B2-6CAF-47BA-AC5D-2B5A4C95F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92DB3-A704-4657-94A2-FBA52AE0E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904FA-22EE-4642-8715-5DDA9386B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EA810-F50A-41ED-A374-18EA3390C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A9AEA-7C78-4FF1-AC70-C0B52DC44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73AE6-2F68-40AE-BC58-7BB520913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5BE30-C966-4997-A596-84D193C7C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8834D-70D6-47E8-B9B7-0D500847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E4825-D413-4552-9FA7-257D13C26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A352B-1E3A-4E5A-B68F-C8556E11D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28EE8-7B53-4B07-84B5-FE82CF20B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AF053-B292-4799-9DCE-94D38EA5E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7F90F-1AAD-4F62-A8FF-0B1D7C91F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81BC-DF28-4B17-A960-F25ABFEBB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AE29B-2484-4CC5-B009-79998968A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931B6-FF86-47B5-ABEF-C8E7BF83D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F704-D73F-4343-A12D-CA4E94B29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88B8-FC60-496D-9470-69574E9F0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665E-6FCB-4799-98BA-B2B72CF5B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5CB3-96B5-49ED-9955-A21555957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7134-9362-49D7-B950-72EFF59AC32D}"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BD2E-162C-4A9F-BF80-26A0020D72A3}"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9</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6</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09-01-12T11:16:59Z</dcterms:modified>
  <cp:revision>59</cp:revision>
  <dc:subject/>
  <dc:title>Training</dc:title>
</cp:coreProperties>
</file>