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EDC7-6FAB-40C5-BBA4-B34E8B06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1043-65B6-4B79-9AAA-30A9150C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6942-1007-43B2-8C7B-743A0273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CADE-4871-41CC-B240-B05B1766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A444-340B-490B-BC6D-4CD6B60C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06D9-6BB1-435C-8840-0E04AA67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3337-0B00-47F9-BC70-2F4982FE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5D63-29F8-460F-9949-3114C50C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7261-F55B-428D-9365-D3B0CFF7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3CA7-F7F1-44CF-832A-FD2D99A7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F25B-B7E6-461B-A9C5-5A52277B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5268-B0C1-4251-8060-4627DAA8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41B3-F5DC-44EC-99B8-BA94AF356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uomi 1800-luvun lopu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236600"/>
            <a:ext cx="821844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atel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ap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orvar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alonpo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äätylä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orppa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äkitupala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engit, pi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o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aupunkityöväest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 (ei tiedä mitä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 (ei käytä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 (ketä edus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 (ei tiedä mitä asiakas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 (ei tiedä mitä voi toteut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 (ei tiedä mistä on ky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uinka kä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138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iks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teh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pin tekijä ei ole ikinä käyttä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keskustellut kopin tekijän kan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utta onneksi kopintekijä oli kaukaa viisas ja laittoi laudat pystyyn :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2:43:11Z</dcterms:created>
  <dc:creator>Lappalainen, Vesa Tapani</dc:creator>
  <dc:description/>
  <dc:language>en-US</dc:language>
  <cp:lastModifiedBy>Lappalainen, Vesa Tapani</cp:lastModifiedBy>
  <dcterms:modified xsi:type="dcterms:W3CDTF">2007-12-09T17:43:19Z</dcterms:modified>
  <cp:revision>19</cp:revision>
  <dc:subject/>
  <dc:title>Slide 1</dc:title>
</cp:coreProperties>
</file>