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66BF14-830E-4DF8-A1F8-057CC871AC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C07ACA-0211-4970-86EC-728A8B239DA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D5C62A-CBDC-4FF0-B9DF-663A85CDA99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7DD349-6EC6-4B52-9A26-9F0C3EE0B77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12A2BE-1CB6-4EDB-8374-8FE3376A008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FF1737-47CB-4B8A-AED1-9B7C7ED3857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DBDFC9-364D-46CD-889F-4075BFF920F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ACFA88-3322-4F88-98BD-53E5A14A819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B6C97C-7BC0-40C4-9389-E9A35B42ECD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489B67-8662-4BC1-AB63-56272058D96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EBED44-926A-469E-A4C2-8FDB7588015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904580-C015-44EB-AD3B-0E2B136DAA3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5FAC4B-DA58-4B69-91DC-4ADBB345957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CA5074-52CB-4000-9785-7AD2600586E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A37840-A675-40D0-878A-B67767C1FCD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283BA0-97E9-4096-AE58-17930AA53ED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12D435-AEB6-40A9-B689-878673890D5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58DEF1-8C3F-4F6E-9DF9-B0F29C1477E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4DE-1108-4FE4-B1B1-8AAFACB8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2D7-7186-4CB4-8286-11E0344D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FBF-F1EC-48AC-9F91-340C3C7C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935-D5B7-4353-97D7-1F82C455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18C-A90F-4037-8922-4CC92288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10E-AF4E-4EC7-B5AC-80086BE1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E86-CA06-41B6-B351-CCEC9D05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527-DA47-4256-B8A0-2A096A7B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863-200D-43B1-B065-A812799D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072-DAA5-4FAB-BA66-3BA66187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D7A-588E-4983-BE89-2844CB2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A35-2015-4B91-B8C6-33A9A566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D75B-4B5C-40F8-9158-1DC3303B8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15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 Lappalainen</cp:lastModifiedBy>
  <dcterms:modified xsi:type="dcterms:W3CDTF">2015-01-10T20:33:38Z</dcterms:modified>
  <cp:revision>19984</cp:revision>
  <dc:subject/>
  <dc:title>No Slide Title</dc:title>
</cp:coreProperties>
</file>