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AC07D6-6AF0-40BB-968B-B3BF7E4CBC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9ED6ED-0F32-471A-95E9-C5B6D8A1AD4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3A3D85-FEAF-4589-B51C-6A3BB48AFE5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E3719C-61A1-4D41-BB29-85747DDCED8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68C053-30A1-4028-B0C9-99508AEC2DE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33C0DA-A6BE-4A14-BFBD-BD9FAF24FA8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8F291E-D8E9-4EB6-B629-E24683A0A3A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BF5727-9851-4900-8297-24AD178F21C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309569-FD46-4106-BFCB-3E63ABC8F55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1E3A15-54AA-44C4-AD18-929D9EB522D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F89683-BDD2-4DDE-B5ED-638653666D3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7C0616-9105-4D5B-92AF-31824639236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02891F-D0EC-4500-8144-E598C3C86AA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876A13-5D1F-4A33-9386-539D401E213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646346-26D6-43F3-933A-4251D520A7D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85F20D-D9E8-4440-8891-E4ABF066A02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83F31E-5814-48E4-B50F-8835EE2B1AE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A28830-03BF-4697-B3DE-F32ADB5638A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EAD-8342-4830-9F29-8D165EF0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A7B-C1E2-49CC-AD24-DF823993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142-9028-4D81-91D0-A23327FA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E5A-D2DE-42BB-B036-FAFA4CC9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B0F-5F80-4396-8433-1C4DB831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6A9-8795-4C5B-84C2-0D6EEC49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314-DB59-409A-AF27-43D5F451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149-A652-443E-99A9-A8DBFEBE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A4E-F527-469E-853C-3C12202B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253-EE23-45CD-B2E6-50C5D8F0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B16-14DE-44B4-9AB8-4408ACF6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195-0C6F-4BB5-8C20-930868D2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D8C0-59D7-4767-A2D4-813811854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prstGeom prst="pi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09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l</cp:lastModifiedBy>
  <dcterms:modified xsi:type="dcterms:W3CDTF">2009-01-12T11:21:53Z</dcterms:modified>
  <cp:revision>19980</cp:revision>
  <dc:subject/>
  <dc:title>No Slide Title</dc:title>
</cp:coreProperties>
</file>