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C250F2-9176-4F07-86C0-61A9A86276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627-F9FA-468B-9042-9BDFFEC2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D90-365E-484F-B61E-7371AAE4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2F1-8078-4952-BDDB-FC5531A9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8BD-7D1D-4F9D-BBDC-0DF5272B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46A-23AB-4AA0-A37E-44A6D453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FEC-14AC-447A-954D-1114AF9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A01-4636-4AFF-A646-4177B65D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E6D-DE84-46B5-B000-6182D311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F1B-1797-443B-A26B-E29D9CA4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F93-06BE-4B7D-B4E4-83494429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2CB-33CB-41AC-A6DF-FE0A1D53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D37-F080-47B2-9A2B-9761059B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334023-551A-4C70-A007-9D9F125B0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6f93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e4e4b6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4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vesal</cp:lastModifiedBy>
  <cp:lastPrinted>31138-02-14T16:19:33Z</cp:lastPrinted>
  <dcterms:modified xsi:type="dcterms:W3CDTF">2004-01-11T13:00:29Z</dcterms:modified>
  <cp:revision>19975</cp:revision>
  <dc:subject/>
  <dc:title>No Slide Title</dc:title>
</cp:coreProperties>
</file>