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4EDFBA-4588-425D-95E9-4760BA87FA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D19605-7497-4403-8812-72AF014B9F9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E03609-C848-41C9-9368-81EDAFDB53F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BA1E2E-A04B-4464-8E75-D286FB9BA25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ABCC59-2D19-48BA-BB8F-08BDA5B197A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727190-CAE9-4D62-BF2B-F7D3ADD2F90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5C5DDF-68AD-4C02-A2F0-8D4F0B9961A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6B5C50-0CDC-4F89-96B7-C7A8D1B4D8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92594B-7294-4CE7-AC1D-0A87004ED7C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A81FAB-0E6E-4E57-8BD5-14FEAEF842F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223E69-51D2-48CD-BD80-094B8BE45E9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4ACA152-12F5-4DBD-B4A1-DF443338995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F4D088-0566-423C-AC6B-327899D99EA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3A835C-5D1A-4A36-B971-220045DA8B4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474E96-C1A2-4000-92DB-22763E2D534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38316A-9571-4ED4-B0E3-150F7E3530B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231746-CF37-4D03-9003-96D4DE6FCFA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A431E7-4FE6-4E2D-BE40-F6A445F0314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59D-96A7-43AC-A0DF-604D5BD2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CF8-7EA3-4BE6-BBF9-8097C46D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237-A154-4775-BE6A-D014E876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5AB-9C75-41F2-86B5-99B88B45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DEC-7A55-40BD-BD50-9706376D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C12-3751-43E0-B352-CAC8FF1B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931-F1C0-4A65-9DDC-257FFCCA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66D-36B8-4973-B591-0E9332EE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03B-91EA-4A7A-8691-7944DBBE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7B9-7562-4839-AEE1-A43DABF2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365-62D5-4A22-B5E1-A1581DA9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5C4-C8C5-470D-A443-56FF7C3B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B93B-B55E-4419-86ED-EEA600B89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prstGeom prst="pi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09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cp:keywords/>
  <dc:language>en-US</dc:language>
  <cp:lastModifiedBy>vesal</cp:lastModifiedBy>
  <dcterms:modified xsi:type="dcterms:W3CDTF">2009-01-12T11:21:53Z</dcterms:modified>
  <cp:revision>19980</cp:revision>
  <dc:subject/>
  <dc:title>No Slide Title</dc:title>
</cp:coreProperties>
</file>