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CDA95-C8F4-45B4-B37E-E75404768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25553-7398-4ACC-86D7-2CB176E18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EB33F-ACB3-4BF2-85E8-E3192297F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AF8DD-EF3C-423C-9865-8F203DA95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15BCF-2E8E-4886-8030-45CB1EA4E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93CD0-EE12-4CD2-9632-8127ABEC5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EBA7C-DFBC-4C51-B10A-F63A5F3FA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B6151-093F-4BB8-BBD6-36F41F475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26E21-4C7B-45D7-91B4-0800669B5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B11B3-75F8-4134-82D7-5C11836D1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FA33B-7CB6-4D64-A09A-D41FDB456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05AAD-DF7C-4F14-9713-7CCF9FBBE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74175-F3CC-47B7-AED2-C192BEFE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F9527-6E8B-43ED-B5A8-036465728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4984E-FDFE-4E49-A13B-8FDB795D3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BE295-E191-40B8-A393-3497C43C5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10C7C-11D9-4968-A5BA-211C31CA4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85CF1-DB54-49F4-B981-0B93B7A68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56C48-F285-4307-9A31-CA4C8F858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5A583-1121-477D-B540-C6B52A885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5515C-29F4-452E-98F5-B37BD220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415B0-66AA-4FB8-B190-D130230BA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E234-A1E5-4533-B20E-9F1D7F8C0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8DA92-1F81-4997-9801-F26C91766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EEA5-0DFA-41CF-8936-28B5676EF52A}"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438F-CF07-4CC9-82E3-DD3EF17B90E0}"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15</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Swing-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https://trac.cc.jyu.fi/projects/ohj1/wiki/k2015</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15-01-10T20:37:55Z</dcterms:modified>
  <cp:revision>64</cp:revision>
  <dc:subject/>
  <dc:title>Training</dc:title>
</cp:coreProperties>
</file>