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E7E41F-CF89-4C7F-BE6C-D47FDFD18C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DDA-134D-4280-A02E-F14FE857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D74-9526-48B9-BFD5-2C619FB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3A3-3C7D-442F-8AF6-09432D42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918-55CF-4907-8832-25F6770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16C-AD46-4DC7-A6DE-CEA46D39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340-D160-4C1B-88D1-BC2444E0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7F2-5069-4AE8-BA7D-6019DC2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96A-5D48-4DD4-AA3C-1994A37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697-ABB0-4B78-8D18-28D9F07B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3B6-BD30-4120-BC68-6064C7C1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21-C624-4F97-86EC-0188089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CF5-48FD-472B-8A29-5A766CA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EF6BC2-CD0D-4650-97B9-AB319295D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f93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e4e4b6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l</cp:lastModifiedBy>
  <cp:lastPrinted>31138-02-14T16:19:33Z</cp:lastPrinted>
  <dcterms:modified xsi:type="dcterms:W3CDTF">2004-01-11T13:00:29Z</dcterms:modified>
  <cp:revision>19975</cp:revision>
  <dc:subject/>
  <dc:title>No Slide Title</dc:title>
</cp:coreProperties>
</file>