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9F1EC-F663-4E5C-9AFE-F350FF6B8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F3A78-4DA2-4A25-A2C6-65476107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3361F-8167-4DCE-9DBC-4AF3E5FBF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93F08-778C-4541-975D-88976850B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98EA6-D5E0-45B3-89AA-DCBFFACC8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A4A48-C37E-4508-AB22-0AB9223CB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2746D-6C7A-43D0-BAEB-9DBC23603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AB253-3B8F-4CE0-A86F-2B406A291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7390D-B6ED-4785-AF2B-0FF4C5518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98248-0B47-4B26-904A-EC08A066E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454E9-2C3F-4764-9FD7-B842A08B0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B30C-8D7A-41D3-901E-17F2BE47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2300-2A8B-4CCF-99EC-619CE4D8B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CB513-9F32-44EA-8603-41033199F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71EC5-2203-43BA-B10D-5717CBC6D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2E0FB-5C43-4AF0-8F43-60C7AAD3C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CF17B-7AE9-4E67-8D9C-425727C94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A1FC8-8CD8-4C8B-8E62-0BFCCA75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F672-F7B1-4AFD-9F3A-426676E0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193A-F59D-41B1-B231-5CB1245B7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D971-2F5C-4D19-8DBF-2F99F7A1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7BD1-D614-4495-B25F-5C1C85A1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D832-53EC-41D7-B092-9CE333EA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00E9-0D44-41AB-8BED-D2D2D0961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AF50-80C6-4531-BD29-B28BB98F5B57}"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E78E-9ACF-4F1F-A64C-22A6DBB4E740}"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4</a:t>
            </a:r>
            <a:endParaRPr b="0" lang="en-US" sz="24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ite@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p@korppi.jyu.fi</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l</cp:lastModifiedBy>
  <dcterms:modified xsi:type="dcterms:W3CDTF">2004-01-11T12:57:42Z</dcterms:modified>
  <cp:revision>54</cp:revision>
  <dc:subject/>
  <dc:title>Training</dc:title>
</cp:coreProperties>
</file>