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2A6D4D-C96B-497C-98F1-8270051527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0F3809-246F-4269-A9B2-C1DBD5516E6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FDF1B9-3CAE-4876-915E-8356FCE6767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17BD9D-E526-406A-82E9-352B33C6FD1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986543-6A42-4156-A44C-2711D764665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0F13D1-71F8-4599-83B7-92469424C9A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113641-5651-47E2-8C5E-C00A77638D6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83EC18-6D70-4000-87D3-B954DFE5D05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7DF06E-221B-4A8C-8EB3-4FC17D8B1E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315703-2345-4331-AFB8-79CDA9B54D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631D15-6E0F-4824-866E-96EFC9A515E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F5DAA5-D7D2-4CB5-BDD8-FC87DEC553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C869F5-F922-4F15-8795-C8333C6B435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F6FF00-BB37-404C-A3C3-C114BFAD153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69CD1D-B79B-4207-9E9D-884AFEA822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C4B6BF-E541-449B-B0A4-995535DA96E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277FF4-388F-4579-B9A6-054344039F6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8D31CC-8D56-446B-A58E-47F09D5A14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F1D-C82B-48CE-BDEC-8FA6204A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459-4555-476E-889F-44EACEC6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403-7177-4B7F-9127-599713C2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840-9FAE-40D1-9C06-7227141F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A6A-49D6-4B9A-9E24-A6906983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9E9-37F3-4409-95F0-B1F9E0FE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1DD-E78F-451C-9BDA-9D67EE21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A39-495B-4F23-89CD-80027C02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E61-E541-4E9F-98AA-0D9DB076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745-20C7-49F1-8D88-E5243824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B5D-D0C2-4E3B-9A7E-39729C17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6FC-9989-4EC3-8108-AD579F66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29E9-4196-49A8-9092-B24A45402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9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l</cp:lastModifiedBy>
  <dcterms:modified xsi:type="dcterms:W3CDTF">2009-01-12T11:21:53Z</dcterms:modified>
  <cp:revision>19980</cp:revision>
  <dc:subject/>
  <dc:title>No Slide Title</dc:title>
</cp:coreProperties>
</file>