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A902C8-671A-403E-B31B-E09D429A56B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C7C3-0DF2-4D72-933A-056C0DC4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D27-6CDF-46D9-931F-629B26F3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201-8F70-468A-A2F5-A4D888C6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95BC-135A-4B78-872E-3E2A1656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2193-8E15-484B-A180-48D0FFFA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7A9B-03CB-4DC2-B9A9-CCEA4002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B36B-C904-4C84-8E59-60A43A09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2F39-CF61-4F1F-B685-F4C01CD1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78D-27CB-4CEB-A9C8-54DEB621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8722-4D2C-4B2F-8DB8-E96BA140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D23-F082-4051-8704-F9049A53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1C4B-9AF9-4C22-9990-999E017D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F8D625-4DC4-4455-BBB8-6EB0AAF0CE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6f93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cce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e4e4b6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04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dc:language>en-US</dc:language>
  <cp:lastModifiedBy>vesal</cp:lastModifiedBy>
  <cp:lastPrinted>31138-02-14T16:19:33Z</cp:lastPrinted>
  <dcterms:modified xsi:type="dcterms:W3CDTF">2004-01-11T13:00:29Z</dcterms:modified>
  <cp:revision>19975</cp:revision>
  <dc:subject/>
  <dc:title>No Slide Title</dc:title>
</cp:coreProperties>
</file>