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625AF1-D99F-4704-90CD-CAA71CCC9D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D9F39D-B476-44F4-8F9C-1A12C38787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17E7F3-9ABF-42C5-9180-A3FD61493FF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06DC46-CA2C-4AC8-B478-637C4F25B30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E6F999-F138-4AAC-837E-B8ACE0FC031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D06301-0EF3-4212-AEC4-EDDBD5871DE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8BA114-0A5A-40DD-ADDB-DE72F6F94AD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0CD4D0-AEEA-4C30-954D-D01D37FDF6E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373506-F6DD-41AD-89F0-AAECDBCAB01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B9F7DA-7399-4942-BEBA-FD7583B4A12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5145DF-317E-4FD3-B86C-45A06D0722C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DC9542-B185-4161-8C31-58C1906881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59FF58-729F-4F9E-85DE-4958DD91BB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036AC6-DA60-4163-AD34-DC41568C77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7AB5AB-C494-4BA3-BA67-90649716BE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8C8716-BAE5-49B0-9B76-7C244E9FB97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A69325-23AD-43B3-91D3-FC86507343B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BAB232-E449-4392-A6A0-6278AEABBF0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DE2-5316-40F2-BBD9-B1285868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6E3-C892-46B3-8A05-2441C6D8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04D-DBE1-4B18-97C8-09CE8487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D41-9FA7-4043-AAE9-592A45BA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5AE-BADC-4D1A-A216-21CC2838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1B7-0A9A-4F53-A663-F2FB5274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D2B-A5D1-44C0-8A18-CD8AFED8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9A5-1F3D-4B5A-8FCA-2B1CD3F2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F6F-4D5D-4F5B-9231-0F5B6250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1ED-038C-42B6-B937-E7D4820E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976-D210-421C-9A72-40EBC182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FCF-D813-43CF-95E4-1E2EBD62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3D23-7384-4E8F-A3E1-8806DD9BC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15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 Lappalainen</cp:lastModifiedBy>
  <dcterms:modified xsi:type="dcterms:W3CDTF">2015-01-10T20:33:38Z</dcterms:modified>
  <cp:revision>19984</cp:revision>
  <dc:subject/>
  <dc:title>No Slide Title</dc:title>
</cp:coreProperties>
</file>