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123A3D-E00F-4C04-A77D-A7F796FC13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21E87F-B053-4C13-B7B6-690AA7569AA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881F51-EEB6-4DFE-8BB8-859207CABFF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0DA21F-02D2-47A9-B02A-4F0A0BA0457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CD6EBA-973E-47A4-85C2-98C36390E73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157F4F-ACF9-48B0-B482-0A2AC96CCA9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CE5889-4F92-4406-B5E3-8359E31C2EE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581C9A-A018-4F72-9387-97EED55F9E4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432766-5D6D-4F93-9EC4-E0454496E32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126B0F-5C76-47DA-A1E7-013BF1E829F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509C03-ECD4-461B-AE57-481E28B74FE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37B681-B83F-44E9-A575-AF5AA59CCA7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2B242D-F106-40CC-9D70-92EFAE40345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164958-9C7A-4B6C-88A2-981A3E95D71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8BA14B-A841-4A30-AAF7-4CA6B3ECA07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C635F1-C4E9-4514-B1D5-BEEEFAD049C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9C456C-6C99-49CE-9E96-FCCAB47E3EB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9C8994-C8F5-4D15-A1A5-89CA5BDE460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922-8AEE-4F80-9770-55F4C154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1F6-3EA5-45E3-9A90-C98590D7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BFE-9E90-4733-97A5-0B73849E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881-F27C-4AD5-83EB-620BEAE6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861-42CB-4BB5-8671-B97C58B1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C5E-0C38-4586-B120-ED8908FC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F7A-07F8-4530-A989-CA49CBB8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085-B183-4B59-BDD9-74043DF3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371-3EAC-4763-8B1D-CCA92632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A9C-A930-4786-A409-494605F5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C4A-3751-401A-A4CA-A119F9D3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677-08D7-4EB4-AA64-A785A4AE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A777-6E2C-42B9-99F4-8E92A38EA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24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dc:language>en-US</dc:language>
  <cp:lastModifiedBy>Vesa Lappalainen</cp:lastModifiedBy>
  <dcterms:modified xsi:type="dcterms:W3CDTF">2024-01-05T10:38:21Z</dcterms:modified>
  <cp:revision>19999</cp:revision>
  <dc:subject/>
  <dc:title>No Slide Title</dc:title>
</cp:coreProperties>
</file>