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8FACCFD-A14D-4251-97AC-F4B7D37AEFE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6443964-31A2-4A47-BD7B-82E04CA8E8A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B166103-41C4-4CEE-9528-5BD19219844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CF35E63-95AE-4350-B896-EDD87DB55B8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1AECDA8-C612-4AD9-A119-7E0EA3A6722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32B90D6-6693-4A33-B478-31A68B02900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5817038-83B8-4017-8DD1-5E274B04166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C7E2E9C-0756-4250-B1C9-CD5DC5A58ED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681B672-888D-4F41-8AEA-8B1B7DB295B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6671B23-2EA2-48F2-96A6-F297276230A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8B5329C-72FA-4ADB-B68F-A1156D3299A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1FC09D1-F0D0-4FF3-9174-D63CF9A7AEC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03E2F1B-F8E3-491E-8401-AB8E877036A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8B50D0C-54B0-4EE6-AA57-7C32BF1E996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7576F30-7922-42CD-9D33-53A73E17A07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30BA9B9-B301-41D8-A80B-4ED80C12F53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85BC925-C271-4B9F-ABEE-A4EA0D8C9F8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0EECFC3-2236-4479-ADA0-6D54D24B874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56AE-CF72-4507-9E14-7B491DA56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94B7-CDA5-4BBD-A73D-15C0C98F0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576E-25E1-4DCB-B997-0B7D0B0A2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01EF-AAF6-441C-9633-D019287B0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70BB-28C1-43A2-A378-A3F58C4D7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31AB-CD87-4E56-9AA8-FCA25F38A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9C63-7000-4EC0-9DB8-DBD82A1C7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F6C3-77CC-40C5-894E-9607BBDDE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0BC4-8BC3-4DAB-B9B0-3C61F2B44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6CF6-0707-41DC-B5E7-5BB22A47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BAC6-5518-49B7-B756-D6A97A45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E224-CEAA-436E-93EC-DB4EB08D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D8C9F-4A9A-4D48-8F1A-2E42486FB8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Group 11"/>
          <p:cNvGrpSpPr/>
          <p:nvPr/>
        </p:nvGrpSpPr>
        <p:grpSpPr>
          <a:xfrm>
            <a:off x="-12600" y="49320"/>
            <a:ext cx="9204120" cy="6865920"/>
            <a:chOff x="-12600" y="49320"/>
            <a:chExt cx="9204120" cy="6865920"/>
          </a:xfrm>
        </p:grpSpPr>
        <p:grpSp>
          <p:nvGrpSpPr>
            <p:cNvPr id="4" name="Group 7"/>
            <p:cNvGrpSpPr/>
            <p:nvPr/>
          </p:nvGrpSpPr>
          <p:grpSpPr>
            <a:xfrm>
              <a:off x="-12600" y="1523880"/>
              <a:ext cx="9204120" cy="5391360"/>
              <a:chOff x="-12600" y="1523880"/>
              <a:chExt cx="9204120" cy="5391360"/>
            </a:xfrm>
          </p:grpSpPr>
          <p:sp>
            <p:nvSpPr>
              <p:cNvPr id="5" name="Rectangle 5"/>
              <p:cNvSpPr/>
              <p:nvPr/>
            </p:nvSpPr>
            <p:spPr>
              <a:xfrm>
                <a:off x="-12600" y="1523880"/>
                <a:ext cx="9204120" cy="44197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33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6"/>
              <p:cNvSpPr/>
              <p:nvPr/>
            </p:nvSpPr>
            <p:spPr>
              <a:xfrm>
                <a:off x="-12600" y="5943600"/>
                <a:ext cx="9204120" cy="97164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7094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10"/>
            <p:cNvGrpSpPr/>
            <p:nvPr/>
          </p:nvGrpSpPr>
          <p:grpSpPr>
            <a:xfrm>
              <a:off x="322200" y="49320"/>
              <a:ext cx="6112080" cy="1077840"/>
              <a:chOff x="322200" y="49320"/>
              <a:chExt cx="6112080" cy="1077840"/>
            </a:xfrm>
          </p:grpSpPr>
          <p:sp>
            <p:nvSpPr>
              <p:cNvPr id="8" name="Freeform 8"/>
              <p:cNvSpPr/>
              <p:nvPr/>
            </p:nvSpPr>
            <p:spPr>
              <a:xfrm>
                <a:off x="322200" y="49320"/>
                <a:ext cx="6112080" cy="1074600"/>
              </a:xfrm>
              <a:custGeom>
                <a:avLst/>
                <a:gdLst/>
                <a:ahLst/>
                <a:rect l="l" t="t" r="r" b="b"/>
                <a:pathLst>
                  <a:path w="3850" h="677">
                    <a:moveTo>
                      <a:pt x="3630" y="274"/>
                    </a:moveTo>
                    <a:lnTo>
                      <a:pt x="3539" y="262"/>
                    </a:lnTo>
                    <a:lnTo>
                      <a:pt x="3795" y="231"/>
                    </a:lnTo>
                    <a:lnTo>
                      <a:pt x="3598" y="219"/>
                    </a:lnTo>
                    <a:lnTo>
                      <a:pt x="3718" y="200"/>
                    </a:lnTo>
                    <a:lnTo>
                      <a:pt x="3523" y="191"/>
                    </a:lnTo>
                    <a:lnTo>
                      <a:pt x="3845" y="147"/>
                    </a:lnTo>
                    <a:lnTo>
                      <a:pt x="3624" y="153"/>
                    </a:lnTo>
                    <a:lnTo>
                      <a:pt x="3760" y="123"/>
                    </a:lnTo>
                    <a:lnTo>
                      <a:pt x="3604" y="137"/>
                    </a:lnTo>
                    <a:lnTo>
                      <a:pt x="3849" y="84"/>
                    </a:lnTo>
                    <a:lnTo>
                      <a:pt x="3650" y="104"/>
                    </a:lnTo>
                    <a:lnTo>
                      <a:pt x="3779" y="60"/>
                    </a:lnTo>
                    <a:lnTo>
                      <a:pt x="3654" y="71"/>
                    </a:lnTo>
                    <a:lnTo>
                      <a:pt x="3833" y="20"/>
                    </a:lnTo>
                    <a:lnTo>
                      <a:pt x="3673" y="37"/>
                    </a:lnTo>
                    <a:lnTo>
                      <a:pt x="3771" y="0"/>
                    </a:lnTo>
                    <a:lnTo>
                      <a:pt x="3661" y="13"/>
                    </a:lnTo>
                    <a:lnTo>
                      <a:pt x="3524" y="31"/>
                    </a:lnTo>
                    <a:lnTo>
                      <a:pt x="3335" y="55"/>
                    </a:lnTo>
                    <a:lnTo>
                      <a:pt x="3028" y="97"/>
                    </a:lnTo>
                    <a:lnTo>
                      <a:pt x="2837" y="125"/>
                    </a:lnTo>
                    <a:lnTo>
                      <a:pt x="2643" y="151"/>
                    </a:lnTo>
                    <a:lnTo>
                      <a:pt x="2247" y="209"/>
                    </a:lnTo>
                    <a:lnTo>
                      <a:pt x="2067" y="237"/>
                    </a:lnTo>
                    <a:lnTo>
                      <a:pt x="1946" y="256"/>
                    </a:lnTo>
                    <a:lnTo>
                      <a:pt x="1748" y="286"/>
                    </a:lnTo>
                    <a:lnTo>
                      <a:pt x="1500" y="327"/>
                    </a:lnTo>
                    <a:lnTo>
                      <a:pt x="1188" y="379"/>
                    </a:lnTo>
                    <a:lnTo>
                      <a:pt x="995" y="413"/>
                    </a:lnTo>
                    <a:lnTo>
                      <a:pt x="669" y="475"/>
                    </a:lnTo>
                    <a:lnTo>
                      <a:pt x="498" y="508"/>
                    </a:lnTo>
                    <a:lnTo>
                      <a:pt x="206" y="577"/>
                    </a:lnTo>
                    <a:lnTo>
                      <a:pt x="113" y="604"/>
                    </a:lnTo>
                    <a:lnTo>
                      <a:pt x="61" y="622"/>
                    </a:lnTo>
                    <a:lnTo>
                      <a:pt x="18" y="642"/>
                    </a:lnTo>
                    <a:lnTo>
                      <a:pt x="4" y="653"/>
                    </a:lnTo>
                    <a:lnTo>
                      <a:pt x="0" y="663"/>
                    </a:lnTo>
                    <a:lnTo>
                      <a:pt x="5" y="670"/>
                    </a:lnTo>
                    <a:lnTo>
                      <a:pt x="18" y="676"/>
                    </a:lnTo>
                    <a:lnTo>
                      <a:pt x="42" y="675"/>
                    </a:lnTo>
                    <a:lnTo>
                      <a:pt x="69" y="660"/>
                    </a:lnTo>
                    <a:lnTo>
                      <a:pt x="84" y="650"/>
                    </a:lnTo>
                    <a:lnTo>
                      <a:pt x="108" y="641"/>
                    </a:lnTo>
                    <a:lnTo>
                      <a:pt x="138" y="630"/>
                    </a:lnTo>
                    <a:lnTo>
                      <a:pt x="186" y="619"/>
                    </a:lnTo>
                    <a:lnTo>
                      <a:pt x="227" y="609"/>
                    </a:lnTo>
                    <a:lnTo>
                      <a:pt x="289" y="597"/>
                    </a:lnTo>
                    <a:lnTo>
                      <a:pt x="359" y="584"/>
                    </a:lnTo>
                    <a:lnTo>
                      <a:pt x="453" y="569"/>
                    </a:lnTo>
                    <a:lnTo>
                      <a:pt x="557" y="553"/>
                    </a:lnTo>
                    <a:lnTo>
                      <a:pt x="673" y="537"/>
                    </a:lnTo>
                    <a:lnTo>
                      <a:pt x="872" y="513"/>
                    </a:lnTo>
                    <a:lnTo>
                      <a:pt x="1028" y="494"/>
                    </a:lnTo>
                    <a:lnTo>
                      <a:pt x="1353" y="459"/>
                    </a:lnTo>
                    <a:lnTo>
                      <a:pt x="1729" y="423"/>
                    </a:lnTo>
                    <a:lnTo>
                      <a:pt x="2039" y="393"/>
                    </a:lnTo>
                    <a:lnTo>
                      <a:pt x="2346" y="369"/>
                    </a:lnTo>
                    <a:lnTo>
                      <a:pt x="2586" y="349"/>
                    </a:lnTo>
                    <a:lnTo>
                      <a:pt x="2776" y="334"/>
                    </a:lnTo>
                    <a:lnTo>
                      <a:pt x="2985" y="321"/>
                    </a:lnTo>
                    <a:lnTo>
                      <a:pt x="3216" y="304"/>
                    </a:lnTo>
                    <a:lnTo>
                      <a:pt x="3399" y="291"/>
                    </a:lnTo>
                    <a:lnTo>
                      <a:pt x="3630" y="274"/>
                    </a:lnTo>
                  </a:path>
                </a:pathLst>
              </a:custGeom>
              <a:gradFill rotWithShape="0">
                <a:gsLst>
                  <a:gs pos="0">
                    <a:srgbClr val="ccecff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9"/>
              <p:cNvSpPr/>
              <p:nvPr/>
            </p:nvSpPr>
            <p:spPr>
              <a:xfrm>
                <a:off x="325440" y="887400"/>
                <a:ext cx="835200" cy="239760"/>
              </a:xfrm>
              <a:custGeom>
                <a:avLst/>
                <a:gdLst/>
                <a:ahLst/>
                <a:rect l="l" t="t" r="r" b="b"/>
                <a:pathLst>
                  <a:path w="526" h="151">
                    <a:moveTo>
                      <a:pt x="0" y="128"/>
                    </a:moveTo>
                    <a:lnTo>
                      <a:pt x="18" y="119"/>
                    </a:lnTo>
                    <a:lnTo>
                      <a:pt x="36" y="108"/>
                    </a:lnTo>
                    <a:lnTo>
                      <a:pt x="54" y="101"/>
                    </a:lnTo>
                    <a:lnTo>
                      <a:pt x="95" y="87"/>
                    </a:lnTo>
                    <a:lnTo>
                      <a:pt x="162" y="66"/>
                    </a:lnTo>
                    <a:lnTo>
                      <a:pt x="288" y="39"/>
                    </a:lnTo>
                    <a:lnTo>
                      <a:pt x="410" y="14"/>
                    </a:lnTo>
                    <a:lnTo>
                      <a:pt x="525" y="0"/>
                    </a:lnTo>
                    <a:lnTo>
                      <a:pt x="419" y="27"/>
                    </a:lnTo>
                    <a:lnTo>
                      <a:pt x="339" y="45"/>
                    </a:lnTo>
                    <a:lnTo>
                      <a:pt x="257" y="66"/>
                    </a:lnTo>
                    <a:lnTo>
                      <a:pt x="186" y="83"/>
                    </a:lnTo>
                    <a:lnTo>
                      <a:pt x="107" y="104"/>
                    </a:lnTo>
                    <a:lnTo>
                      <a:pt x="63" y="125"/>
                    </a:lnTo>
                    <a:lnTo>
                      <a:pt x="48" y="140"/>
                    </a:lnTo>
                    <a:lnTo>
                      <a:pt x="29" y="147"/>
                    </a:lnTo>
                    <a:lnTo>
                      <a:pt x="12" y="150"/>
                    </a:lnTo>
                    <a:lnTo>
                      <a:pt x="5" y="146"/>
                    </a:lnTo>
                    <a:lnTo>
                      <a:pt x="0" y="140"/>
                    </a:lnTo>
                    <a:lnTo>
                      <a:pt x="0" y="128"/>
                    </a:lnTo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e5e5b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2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34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37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2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3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44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5" name="Object 1027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6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  <p:transition spd="slow" advTm="2000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arjoitustyö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rjoitustyö haastavast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ntyy aiheesta omast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okonaisuuden kuvaksi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sän puilta mieltäväksi.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1" name="Object 0"/>
          <p:cNvGraphicFramePr/>
          <p:nvPr/>
        </p:nvGraphicFramePr>
        <p:xfrm>
          <a:off x="1212840" y="4187880"/>
          <a:ext cx="2444760" cy="266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2840" y="4187880"/>
                    <a:ext cx="2444760" cy="26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1"/>
          <p:cNvGraphicFramePr/>
          <p:nvPr/>
        </p:nvGraphicFramePr>
        <p:xfrm>
          <a:off x="5784840" y="3657600"/>
          <a:ext cx="2901960" cy="259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84840" y="3657600"/>
                    <a:ext cx="290196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2"/>
          <p:cNvGraphicFramePr/>
          <p:nvPr/>
        </p:nvGraphicFramePr>
        <p:xfrm>
          <a:off x="7156440" y="1380960"/>
          <a:ext cx="1606680" cy="151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6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156440" y="1380960"/>
                    <a:ext cx="1606680" cy="15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3"/>
          <p:cNvGraphicFramePr/>
          <p:nvPr/>
        </p:nvGraphicFramePr>
        <p:xfrm>
          <a:off x="7359480" y="69840"/>
          <a:ext cx="806760" cy="1454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8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59480" y="69840"/>
                    <a:ext cx="806760" cy="14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7000">
    <p:cover dir="l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9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1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63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4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66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1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2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73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4" name="Object 1027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5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Object 1028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7" name="Object 10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  <p:transition spd="slow" advTm="2000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0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82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3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85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0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1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92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3" name="Object 1027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4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Object 1028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6" name="Object 10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97" name="Object 1029"/>
          <p:cNvGraphicFramePr/>
          <p:nvPr/>
        </p:nvGraphicFramePr>
        <p:xfrm>
          <a:off x="6597720" y="298440"/>
          <a:ext cx="641160" cy="92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8" name="Object 102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97720" y="298440"/>
                    <a:ext cx="641160" cy="9208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1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03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4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06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1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2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13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4" name="Object 1027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5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Object 1028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7" name="Object 10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0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22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3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4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25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0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1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32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3" name="Object 1027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4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1028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6" name="Object 10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37" name="Object 1029"/>
          <p:cNvGraphicFramePr/>
          <p:nvPr/>
        </p:nvGraphicFramePr>
        <p:xfrm>
          <a:off x="6597720" y="298440"/>
          <a:ext cx="641160" cy="92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8" name="Object 102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97720" y="298440"/>
                    <a:ext cx="641160" cy="9208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1" name="Object 0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43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4" name="Object 1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5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46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1" name="Object 2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2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53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4" name="Object 3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5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4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7" name="Object 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0" name="Object 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62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3" name="Object 6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65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0" name="Object 12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1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72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3" name="Object 14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4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Object 15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6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77" name="Object 16"/>
          <p:cNvGraphicFramePr/>
          <p:nvPr/>
        </p:nvGraphicFramePr>
        <p:xfrm>
          <a:off x="6597720" y="298440"/>
          <a:ext cx="641160" cy="92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8" name="Object 1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97720" y="298440"/>
                    <a:ext cx="641160" cy="9208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hjelmointi 2 – 2023</a:t>
            </a:r>
            <a:br>
              <a:rPr sz="4400"/>
            </a:b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Vesa Lappalainen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t">
            <a:normAutofit fontScale="78000"/>
          </a:bodyPr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kuun annan sulle vinki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outavia on juorut muid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ppo loppui, alkoi arki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utsuu koulu - niinkö luule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koppas: YLIOPI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atii työtavat totiset!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1" name="Object 6"/>
          <p:cNvGraphicFramePr/>
          <p:nvPr/>
        </p:nvGraphicFramePr>
        <p:xfrm>
          <a:off x="6629400" y="4572000"/>
          <a:ext cx="2325600" cy="24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4572000"/>
                    <a:ext cx="2325600" cy="24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Rectangle 7"/>
          <p:cNvSpPr/>
          <p:nvPr/>
        </p:nvSpPr>
        <p:spPr>
          <a:xfrm>
            <a:off x="7010280" y="5257800"/>
            <a:ext cx="228600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lass Hello {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blic static void main(String[] args) {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ystem.out.println("Hello world!")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000"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" name="Object 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14240" y="1676160"/>
            <a:ext cx="5334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stolla oppi ei tule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ikä kauhan kaadannall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yös ei vastuun välttämällä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yönsä muilla teettämällä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Jos sun mielesi tekevi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ivosi odottelevi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ilauttaa vinkin voinen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pastukset ongelmille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checker dir="horz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Object 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74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123720" y="2133720"/>
            <a:ext cx="5715000" cy="4114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ki saarnailen saliss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rron joukolle jotakin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imerkkejä esitä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nnä vaiheita valota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slow" advTm="5000">
    <p:checker dir="horz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" name="Object 2048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20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81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2" name="Object 2049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Object 204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84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2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" name="Object 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89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" name="Object 6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92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65280" y="3352320"/>
            <a:ext cx="3506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mot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800600" y="3960720"/>
            <a:ext cx="419112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kko tehdä on demoj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rjoitukset harjoitell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se illoin ihmetellä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ovin koodailla koto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7000">
    <p:blinds dir="ver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8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00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1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03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6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7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08" name="Rectangle 11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2000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1" name="Object 4"/>
          <p:cNvGraphicFramePr/>
          <p:nvPr/>
        </p:nvGraphicFramePr>
        <p:xfrm>
          <a:off x="4572000" y="3375000"/>
          <a:ext cx="3651120" cy="34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3375000"/>
                    <a:ext cx="3651120" cy="34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ääteohjau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uontune ei kurssi yksi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i meitä auttamass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hjaajat opastamass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listaen vaadittaiss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cover dir="lu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6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7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19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0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22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5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6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27" name="Rectangle 11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8" name="Object 1027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9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  <p:transition spd="slow" advTm="2000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esal</dc:creator>
  <dc:description/>
  <dc:language>en-US</dc:language>
  <cp:lastModifiedBy>Lappalainen, Vesa</cp:lastModifiedBy>
  <dcterms:modified xsi:type="dcterms:W3CDTF">2023-01-08T18:30:08Z</dcterms:modified>
  <cp:revision>19998</cp:revision>
  <dc:subject/>
  <dc:title>No Slide Title</dc:title>
</cp:coreProperties>
</file>