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32D1D8-03B6-4CE7-992F-A7F8E16225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EAFD451-AD84-4BB8-8C47-304D69D1B56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CF691E-E2B5-491D-B8BA-5635F9050E6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4A6C3E-0B7E-430C-B2CC-59619E9B41A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A39328-6CBE-4144-A6EB-8A240E18CDA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F46483-984A-473C-B710-8CECAF9DF92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3D7B53E-EEC1-461F-9066-F92AFA6F1E4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8C870B-9C85-4AB2-8F4F-FDA45AFD54D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AFD960-D237-4CF5-ABE9-4B5F1D497E3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0CB3BDB-24AB-43B7-9A83-5B7F1C0C5A0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1C6C89-517B-42B2-A2E0-1279BFFFAF2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E77202-7A05-42BB-B2C4-A1621174805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927119-7FA8-4B20-B6DF-23CA8466CB7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406042-ADBA-4EBD-8241-0769C244630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AA6159-C449-4D4E-B4BD-1DC282A84F1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AEA4E60-1920-4067-B48C-2C52275F407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BDD020-A10B-4D1B-9A5C-71A46897915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0AFF55-7D88-4360-B860-41F91235062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C42-D7E7-48E7-8A65-D45D13DE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B98F-3094-4DE4-A2B5-37A36711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57DC-5234-4CC7-B9E1-325D4E90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1AF-5A28-4501-AA9A-FC11374D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314-2895-48A9-891A-A68FA3D3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BE1-A5D8-4591-8FB1-70EFE96E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25E-CF8C-4C4F-998E-F746ABF4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2AC-C947-4809-B536-CA9FE213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1DF-E08A-4822-ADF6-1CB0AB67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C08C-537D-4E31-8BE4-1CA5CD70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9F93-FDBD-43ED-9604-BF32B4C4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0DF-EAED-41E6-B202-A8AAE60B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D473-4638-4509-94EE-CE4358ED1D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4" name="Group 7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5" name="Rectangle 5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6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7094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8" name="Freeform 8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5e5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44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joitusty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joitustyö haastav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yy aiheesta omast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konaisuuden kuvaks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sän puilta mieltäväksi.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0"/>
          <p:cNvGraphicFramePr/>
          <p:nvPr/>
        </p:nvGraphicFramePr>
        <p:xfrm>
          <a:off x="1212840" y="4187880"/>
          <a:ext cx="24447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4187880"/>
                    <a:ext cx="24447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"/>
          <p:cNvGraphicFramePr/>
          <p:nvPr/>
        </p:nvGraphicFramePr>
        <p:xfrm>
          <a:off x="5784840" y="3657600"/>
          <a:ext cx="290196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84840" y="3657600"/>
                    <a:ext cx="29019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"/>
          <p:cNvGraphicFramePr/>
          <p:nvPr/>
        </p:nvGraphicFramePr>
        <p:xfrm>
          <a:off x="7156440" y="1380960"/>
          <a:ext cx="1606680" cy="151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56440" y="1380960"/>
                    <a:ext cx="1606680" cy="15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7359480" y="69840"/>
          <a:ext cx="806760" cy="145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9480" y="69840"/>
                    <a:ext cx="8067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cover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7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8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9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0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3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3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Object 1027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028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37" name="Object 1029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Object 0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Object 1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46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53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2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65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4876920" y="2606760"/>
            <a:ext cx="75960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rjoitusty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H="1" flipV="1">
            <a:off x="3886200" y="1981080"/>
            <a:ext cx="1447920" cy="60984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0" name="Object 12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272" name="Rectangle 13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Object 14"/>
          <p:cNvGraphicFramePr/>
          <p:nvPr/>
        </p:nvGraphicFramePr>
        <p:xfrm>
          <a:off x="3178080" y="2421000"/>
          <a:ext cx="1089000" cy="10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8080" y="2421000"/>
                    <a:ext cx="1089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5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77" name="Object 16"/>
          <p:cNvGraphicFramePr/>
          <p:nvPr/>
        </p:nvGraphicFramePr>
        <p:xfrm>
          <a:off x="6597720" y="298440"/>
          <a:ext cx="641160" cy="92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97720" y="298440"/>
                    <a:ext cx="641160" cy="920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hjelmointi 2 – 2022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Vesa Lappalaine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uun annan sulle vink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tavia on juorut mui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ppo loppui, alkoi arki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tsuu koulu - niinkö luu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koppas: YLIOP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atii työtavat totiset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6629400" y="4572000"/>
          <a:ext cx="2325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4572000"/>
                    <a:ext cx="2325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7"/>
          <p:cNvSpPr/>
          <p:nvPr/>
        </p:nvSpPr>
        <p:spPr>
          <a:xfrm>
            <a:off x="7010280" y="5257800"/>
            <a:ext cx="228600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lass Hello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ublic static void main(String[] args) 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.out.println("Hello world!"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tolla oppi ei tule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ikä kauhan kaadanna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yös ei vastuun välttämä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önsä muilla teettämäll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os sun mielesi tek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vosi odottelev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lauttaa vinkin voine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astukset ongelmille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74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213372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ki saarnailen salis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rron joukolle jotaki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imerkkejä esitä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nnä vaiheita valot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 advTm="5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2048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1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Object 2049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4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9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65280" y="335232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ot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96072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kko tehdä on demoj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joitukset harjoitell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se illoin ihmetellä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vin koodailla kot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0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3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08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572000" y="3375000"/>
          <a:ext cx="365112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375000"/>
                    <a:ext cx="365112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ääteohja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ontune ei kurssi yks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 meitä aut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jaajat opastamass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staen vaadittais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cover dir="l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Object 1024"/>
          <p:cNvGraphicFramePr/>
          <p:nvPr/>
        </p:nvGraphicFramePr>
        <p:xfrm>
          <a:off x="533520" y="1407960"/>
          <a:ext cx="1676160" cy="14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7960"/>
                    <a:ext cx="1676160" cy="1411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2287440" y="122076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uenn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Object 1025"/>
          <p:cNvGraphicFramePr/>
          <p:nvPr/>
        </p:nvGraphicFramePr>
        <p:xfrm>
          <a:off x="831960" y="4641840"/>
          <a:ext cx="157644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4641840"/>
                    <a:ext cx="1576440" cy="137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Line 7"/>
          <p:cNvSpPr/>
          <p:nvPr/>
        </p:nvSpPr>
        <p:spPr>
          <a:xfrm flipH="1">
            <a:off x="2514600" y="2057400"/>
            <a:ext cx="457200" cy="16765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449360" y="3809880"/>
            <a:ext cx="4768920" cy="823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mo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 flipV="1">
            <a:off x="3276720" y="3428640"/>
            <a:ext cx="1752480" cy="762120"/>
          </a:xfrm>
          <a:prstGeom prst="line">
            <a:avLst/>
          </a:prstGeom>
          <a:ln w="50760">
            <a:solidFill>
              <a:srgbClr val="ffff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1026"/>
          <p:cNvGraphicFramePr/>
          <p:nvPr/>
        </p:nvGraphicFramePr>
        <p:xfrm>
          <a:off x="5403960" y="3984480"/>
          <a:ext cx="1530360" cy="14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3960" y="3984480"/>
                    <a:ext cx="1530360" cy="1441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Rectangle 11"/>
          <p:cNvSpPr/>
          <p:nvPr/>
        </p:nvSpPr>
        <p:spPr>
          <a:xfrm>
            <a:off x="4782960" y="5472000"/>
            <a:ext cx="1643400" cy="45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ääteohja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Object 1027"/>
          <p:cNvGraphicFramePr/>
          <p:nvPr/>
        </p:nvGraphicFramePr>
        <p:xfrm>
          <a:off x="6465960" y="1289160"/>
          <a:ext cx="1306440" cy="13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65960" y="1289160"/>
                    <a:ext cx="1306440" cy="1377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80"/>
                    </a:outerShdw>
                  </a:effectLst>
                </p:spPr>
              </p:pic>
            </p:oleObj>
          </a:graphicData>
        </a:graphic>
      </p:graphicFrame>
    </p:spTree>
  </p:cSld>
  <p:transition spd="slow" advTm="2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esal</dc:creator>
  <dc:description/>
  <dc:language>en-US</dc:language>
  <cp:lastModifiedBy>Lappalainen, Vesa</cp:lastModifiedBy>
  <dcterms:modified xsi:type="dcterms:W3CDTF">2022-01-08T22:24:33Z</dcterms:modified>
  <cp:revision>19997</cp:revision>
  <dc:subject/>
  <dc:title>No Slide Title</dc:title>
</cp:coreProperties>
</file>