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0C72-1938-405D-A636-9BF5AE06C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5BB4-864F-41FF-A3AF-9AEC63A26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7CCD-FF0F-44C0-ABD6-DF69D6D04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FBA0-F2F3-4C56-A465-8E075CA44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7CC2-17E5-481B-A575-7B99A9BE0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3386-98A6-474E-AD50-6D1E1FE18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6278-F329-49E4-B9C6-518602DE7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64FB-41F3-4D51-965A-91EA1DA84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87E6-5AD2-486C-8AF6-B4DC3CA1A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A30D-D73E-4219-9F0E-058F4B5B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A35B-C0DB-410D-972E-879D6D01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AF98-5C05-45FB-9CC1-9B54917C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7D8A3-F6F3-45D1-8C0A-771E31EFE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kaan edust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yyj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rojektipäällikk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rkkiteh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äyttöliittymäsuunnittel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ehittäj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esta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Suomi 1800-luvun lopu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000" y="1236600"/>
            <a:ext cx="821844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atel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ap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orvar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alonpo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Säätyläi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orppar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äkitupalai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Rengit, pi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Loi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aupunkityöväest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as (ei tiedä mitä halu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kaan edustaja (ei käytä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yyjä (ei ymmärrä ongelm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rojektipäällikkö (ketä edust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rkkitehti (ei tiedä mitä asiakas halu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äyttöliittymäsuunnittelija (ei tiedä mitä voi toteutt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ehittäjä (ei ymmärrä ongelm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estaaja (ei tiedä mistä on ky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Kuinka kä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8713800" cy="43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Miks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oira ei tehnyt kopp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opin tekijä ei ole ikinä käyttänyt kopp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oira ei keskustellut kopin tekijän kan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utta onneksi kopintekijä oli kaukaa viisas ja laittoi laudat pystyyn :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iakkaan edust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yyj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rojektipäällikk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rkkiteh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äyttöliittymäsuunnittel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ehittäj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esta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12:43:11Z</dcterms:created>
  <dc:creator>Lappalainen, Vesa Tapani</dc:creator>
  <dc:description/>
  <dc:language>en-US</dc:language>
  <cp:lastModifiedBy>Lappalainen, Vesa Tapani</cp:lastModifiedBy>
  <dcterms:modified xsi:type="dcterms:W3CDTF">2007-12-09T17:43:19Z</dcterms:modified>
  <cp:revision>19</cp:revision>
  <dc:subject/>
  <dc:title>Slide 1</dc:title>
</cp:coreProperties>
</file>