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B8652C-0911-461B-AEA9-601C86C362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4CFA8C-3FD9-4F6A-B0CB-A15AE839719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572C0C-2E25-4800-9B7F-61A1C3D0237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8328B8-D62C-42BE-B82B-06AD2CFD7E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968F84-3F68-41C3-B5B8-E3922A3403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22E51A-0AFE-4CEC-B590-C9BB00DAD9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81F9AC-3537-4D14-8CD9-0B8EFDE1BA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FA7250-BD16-4EBF-B1F0-7A99A0A58F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EAA87C-2DFC-47AF-B695-5801E6F87D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097EAE-9FF4-40FA-8C36-C7FFB7BDA5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747DAD-54B6-43D9-85C2-A739E42941D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15DE31-9023-41AA-A423-0B61084663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AB38A1-35A6-4F4C-8FB4-C381AF56EB9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A211AC-5B81-44CD-AE0D-740532B4208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43F288-8221-4165-8DAD-9F9B383E05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8330DD-6DD6-4E53-91D3-893B064E883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FEAD00-6286-4EC5-A545-44C3A534B98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782B2A-FA9D-4541-B5D0-AF91D211A0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409-09D9-45B2-8A9C-BC8E3C93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617-2F84-4ACF-8EBE-AA6DA607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D3F-BC51-4940-9EB5-DA3489BA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D04-1A2A-4354-89A3-0DE5B1B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DDF-93A2-4AA5-B02A-312EAEEF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310-BB6E-4938-B7A6-91E04D69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E31-C9D3-4ED2-95A3-27F154C3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A56-1F67-405E-8F0D-38B9AE2F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59B-A9B3-4020-92ED-567E4556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1BB-1D3D-4C74-B6E8-1A6C80B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6A8-F71F-4D5E-B6EB-C9E9880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2AD-D761-4314-9579-DD79F45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7B04-29AE-4A3E-B8FD-1D63F67F2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201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 Lappalainen</cp:lastModifiedBy>
  <dcterms:modified xsi:type="dcterms:W3CDTF">2021-01-10T21:04:10Z</dcterms:modified>
  <cp:revision>19995</cp:revision>
  <dc:subject/>
  <dc:title>No Slide Title</dc:title>
</cp:coreProperties>
</file>