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BD14-C9BC-4B98-BB12-FD865686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9518-F22E-460C-B4EE-CA35F661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8C4C-067F-4956-9237-FA3551DD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53C1-D3C5-4B29-9B1D-7E299ACD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747A-798D-4ED1-81F1-04BB3AA0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3425-C7AA-412F-B588-4606F143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B89E-D2F8-442C-A3F2-C77AB6F2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8210-5D91-4DCE-9388-13774DAE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F47E-82F6-4547-8363-F46C384D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BA14-04BD-4D19-B9E6-F4A49A09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450A-B35E-4195-8AA7-BA89AFF4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F8E7-4089-4030-B553-395CD45C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0E99-DBC9-4B18-A03D-692740739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uomi 1800-luvun lopu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236600"/>
            <a:ext cx="821844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atel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ap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orvar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alonpo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äätylä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orppa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äkitupala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engit, pi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o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aupunkityöväest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 (ei tiedä mitä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 (ei käytä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 (ketä edus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 (ei tiedä mitä asiakas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 (ei tiedä mitä voi toteut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 (ei tiedä mistä on ky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uinka kä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138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iks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teh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pin tekijä ei ole ikinä käyttä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keskustellut kopin tekijän kan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utta onneksi kopintekijä oli kaukaa viisas ja laittoi laudat pystyyn :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2:43:11Z</dcterms:created>
  <dc:creator>Lappalainen, Vesa Tapani</dc:creator>
  <dc:description/>
  <dc:language>en-US</dc:language>
  <cp:lastModifiedBy>Lappalainen, Vesa Tapani</cp:lastModifiedBy>
  <dcterms:modified xsi:type="dcterms:W3CDTF">2007-12-09T17:43:19Z</dcterms:modified>
  <cp:revision>19</cp:revision>
  <dc:subject/>
  <dc:title>Slide 1</dc:title>
</cp:coreProperties>
</file>