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F22B7-9988-41E9-87F4-786EAA2B5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35132-B160-4F61-8528-AAF12081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69AF1-A76A-4A27-A6B5-4E61E15D0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4BE08-7043-437D-A1B1-51DED00A2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1846A-4C50-4086-818B-B0620CAAE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793DE-9173-4246-927F-3C12B2A15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4E992-886A-4C11-BA59-C83112E73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D4986-B99F-4851-AABE-8380C4FEE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504C4-DCB9-4DD8-ACFC-AB367FE82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2DB8F-F00B-473F-96D1-601945D6F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E3C50-FB31-4260-8AD3-4678938F4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B2BF0-553C-42DD-BFFE-B2C701FEA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D8513-7149-488F-96A6-5A56F74C8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56D4A-4942-49B1-8545-A55FEE928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A65B3-D576-40B2-864E-66CDDB5CE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F5DE4-CB30-438E-AF48-8076CE1D2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D774E-54CE-4D89-AE94-AAB8F2DA3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ACFBF-1374-49EB-B14C-902397F0C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94C61-5B98-45E9-8320-4183EEDFA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C1F9-03AB-4CBF-A188-DB97E2BC2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B2EF-009C-4435-A1A7-DC865E1C8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7307-8E9E-4912-9FBA-83D2811F6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4FC83-107F-4FB8-800C-B96CB1B02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494A-A757-494C-9C6C-C674B81F5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DC59-05C7-48CB-8E80-21E988E72709}"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87FF-1D55-4316-86B9-7D70EE340387}"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tim.jyu.fi/view/kurssit/tie/ohj2/2020k/koti"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20</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JavaFX-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250560" y="2133720"/>
            <a:ext cx="88930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https://tim.jyu.fi/view/kurssit/tie/ohj2/2020k/kot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20@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20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9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60" dur="500"/>
                                        <p:tgtEl>
                                          <p:spTgt spid="114">
                                            <p:txEl>
                                              <p:pRg st="5" end="5"/>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65" dur="500"/>
                                        <p:tgtEl>
                                          <p:spTgt spid="114">
                                            <p:txEl>
                                              <p:pRg st="5" end="5"/>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170" dur="500"/>
                                        <p:tgtEl>
                                          <p:spTgt spid="114">
                                            <p:txEl>
                                              <p:pRg st="6" end="6"/>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gtEl>
                                        <p:attrNameLst>
                                          <p:attrName>style.visibility</p:attrName>
                                        </p:attrNameLst>
                                      </p:cBhvr>
                                      <p:to>
                                        <p:strVal val="visible"/>
                                      </p:to>
                                    </p:set>
                                    <p:animEffect filter="wipe(up)" transition="in">
                                      <p:cBhvr additive="repl">
                                        <p:cTn id="175" dur="500"/>
                                        <p:tgtEl>
                                          <p:spTgt spid="114"/>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gtEl>
                                        <p:attrNameLst>
                                          <p:attrName>style.visibility</p:attrName>
                                        </p:attrNameLst>
                                      </p:cBhvr>
                                      <p:to>
                                        <p:strVal val="visible"/>
                                      </p:to>
                                    </p:set>
                                    <p:animEffect filter="wipe(up)" transition="in">
                                      <p:cBhvr additive="repl">
                                        <p:cTn id="18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9-12-28T21:40:58Z</dcterms:modified>
  <cp:revision>73</cp:revision>
  <dc:subject/>
  <dc:title>Training</dc:title>
</cp:coreProperties>
</file>