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217F9D-F3A4-412D-A101-F4F8C9BACE6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79BB5A-9A44-4E41-80CA-C2EB31E8FCE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4D34027-B456-4B72-B1CC-27C60E1B217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CDDE68B-E5E1-4E90-8687-58EE9FAD31E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7D9CD35-3701-4B08-8A04-952F14B53BB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12B432-7F79-4AE7-A7BC-2A2D3D8D0B8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6D21A5-DB64-4613-AC3D-B0FB1CF92CD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632E18-5931-48DF-8500-0C51CD6CE4E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668B80-1CD3-456C-AB41-3B75C99BDEE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D3D368-0D61-42BB-9B0D-1E540826F6C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028D7AC-5DFF-43A5-9CA6-EEAF3B61E93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8D3289-19CE-4D0D-9BF6-808E7714E51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64AEC5-8A4C-42CA-A739-450EA960AA6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185D45-F663-4D54-9DEB-3DC6D72ED0E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600288-1D7F-4FDD-9D87-4AB1BB2D023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E3FD366-F91F-456E-A4AE-248C10EC3F0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BD8D60-A191-4785-9DC6-4B20DDB264A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C1D3530-0D42-406C-8A94-B2A5038B76D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053-5700-4FCC-9B9E-1B3BEFB7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590-C602-40B3-BD3E-F8212AB5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6A5-3586-4E13-829D-503B8083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C50-CD44-4676-8F23-50F19BEB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C1E-49AE-43D0-B580-7C61F0F2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8792-1E72-48D3-BBA8-3B1440D7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0FC6-559A-4AB4-AB6E-676466BE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471-593B-4E13-BF47-AC28621C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311A-13E3-4469-8771-A55F1CA5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095C-81AC-4E9E-A07C-184C181B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7C2-7613-4855-A68B-B4C15BCC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3BE-298D-44A9-BD31-8EDFC6C9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877F-FEFA-43EB-B72A-852C6101DB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Group 7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Rectangle 5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7094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Freeform 8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5e5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0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Object 0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Object 1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Object 14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5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Object 16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20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7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2048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Object 2049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dc:language>en-US</dc:language>
  <cp:lastModifiedBy>Vesa Lappalainen</cp:lastModifiedBy>
  <dcterms:modified xsi:type="dcterms:W3CDTF">2019-12-28T22:42:00Z</dcterms:modified>
  <cp:revision>19994</cp:revision>
  <dc:subject/>
  <dc:title>No Slide Title</dc:title>
</cp:coreProperties>
</file>